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02699"/>
        <c:axId val="88298030"/>
      </c:barChart>
      <c:catAx>
        <c:axId val="37302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98030"/>
        <c:crosses val="autoZero"/>
        <c:auto val="1"/>
        <c:lblAlgn val="ctr"/>
        <c:lblOffset val="100"/>
        <c:noMultiLvlLbl val="0"/>
      </c:catAx>
      <c:valAx>
        <c:axId val="88298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02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AAA-5D93-4050-9502-58ED26A7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E1D-4F81-40D6-8D36-6FD9EB9A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286-2749-4BF4-8E4D-6F89C6F4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87B-EDD9-492A-80DF-549128E2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63F-27CE-4DF5-8CCF-7F5F6564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8DC-185B-4B4E-87D0-CA2B8DC0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044-D0F0-46D8-86D0-6C3DF37C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3C4-59B0-40CC-9738-C9D816A8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522-B531-42ED-A2D8-830A24FA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6BD-253A-4B68-B7BB-8C1CED34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754-BD15-4C13-9430-9A1A659F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A98-3193-4AE2-B41A-3336885F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D2AC1-71A7-4A1B-939A-9E1B53C0AD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