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84628"/>
        <c:axId val="42331858"/>
      </c:barChart>
      <c:catAx>
        <c:axId val="40784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31858"/>
        <c:crosses val="autoZero"/>
        <c:auto val="1"/>
        <c:lblAlgn val="ctr"/>
        <c:lblOffset val="100"/>
        <c:noMultiLvlLbl val="0"/>
      </c:catAx>
      <c:valAx>
        <c:axId val="423318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84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3A5-CCF3-4BAE-97D4-EDE210D4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17E-FF31-450B-A121-B1075DF7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0104-4C60-4E8E-AEC6-3B2F32B4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256E-9E84-4B63-81DD-CAA81E13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484-3751-4228-ACFA-4DDE6ACC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AF6-DEAE-40A1-96D7-D3F7F5BA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1BA6-24F4-438F-B75D-31FB8ECA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420-B3B4-40F1-8003-0A681F25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B25-2614-4756-A5DF-7C9A60E1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EB5-CE20-4F00-B300-4761949D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7E7-A54F-4899-B68F-BFB0EF1F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5E71-8B63-4DF4-B96E-7D29FA6C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BA21D-1B18-4741-A567-8D998B5A3B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