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11489"/>
        <c:axId val="10814410"/>
      </c:barChart>
      <c:catAx>
        <c:axId val="13311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14410"/>
        <c:crosses val="autoZero"/>
        <c:auto val="1"/>
        <c:lblAlgn val="ctr"/>
        <c:lblOffset val="100"/>
        <c:noMultiLvlLbl val="0"/>
      </c:catAx>
      <c:valAx>
        <c:axId val="10814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11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51E-6FFA-4FA3-A9F2-C5AD2F28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F5A-1F5A-4465-ADE5-C815975E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B2A-8DCE-482B-8A41-9A094849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2B8-18CA-419B-8547-55269236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6B4-458E-4FA5-ACDD-3F12F560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3E8-166F-4D38-850A-2F156EC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B64-055A-4956-8B84-E91B8F0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C53-E2D4-4E8A-808C-35B718C5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E13-9EE2-47CD-9DC6-19A9A654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241-FBBB-4D62-B238-593483E0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D82-0014-4D1B-AE5B-0991FB4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136-8B67-410E-9F35-6F147BC3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00879-415C-4DC3-A97E-8B2EDB683B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