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14911"/>
        <c:axId val="6683270"/>
      </c:barChart>
      <c:catAx>
        <c:axId val="72314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3270"/>
        <c:crosses val="autoZero"/>
        <c:auto val="1"/>
        <c:lblAlgn val="ctr"/>
        <c:lblOffset val="100"/>
        <c:noMultiLvlLbl val="0"/>
      </c:catAx>
      <c:valAx>
        <c:axId val="6683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14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A6C-B8A0-4BEA-A937-21133964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CA6-01CD-4E78-ABA8-D1356276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D1D-7C81-4D09-91CB-8967C13F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AE3-8EF4-43D4-9B7D-8116627C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487-C4C9-4277-A58D-8B2F6F29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013-89AE-42A6-96D3-8915303E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79A-8F14-4015-A5A9-ABE3E347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0DD-CC9D-4539-BD3B-6DE52AFD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AB0-EC42-4E8F-B3F8-F0D4FCD0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AE4-E082-4789-93C4-8DFF9C12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AF7-38A1-42B4-998E-094EAF6A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5E4-A8B6-4EBE-9974-40CA19E0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0FE42-29CD-446A-9C32-C8EF47B1C8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