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0677E9-02A1-40A4-81B7-069FA350A0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CD6161-EE4D-4BF2-960E-32A6EF5A3E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7900AB-E96B-4D07-A934-0A4259B080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3B7D96-CC12-44A1-BE7E-7F92595D3EE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B6D6E-FF81-48AB-9529-BD67D13EF22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586E72-1A5A-4E58-AF1B-BF5CAE140F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75E387-0F14-4C48-8B5F-080AA812ED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61716-0BAF-482A-9DE9-181B83A54B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E551EF-178F-41D4-8B57-51ED3651A5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6C8A9C-475D-4DBE-9486-E3DAF3BB15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5A28D7-C195-4D93-BC96-0B4EF1BD47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23D0C4-6EF7-4FF6-82AD-D74E9FD72F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74904-76FE-46BE-B3EB-026E597358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838080" y="336852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812880" y="34574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727280" y="3419640"/>
            <a:ext cx="380880" cy="609120"/>
            <a:chOff x="1727280" y="341964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1822320" y="341964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917720" y="359352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177480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91772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727280" y="3724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876240" y="47242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Document"/>
          <p:cNvSpPr/>
          <p:nvPr/>
        </p:nvSpPr>
        <p:spPr>
          <a:xfrm>
            <a:off x="3886200" y="344484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60640" y="3495600"/>
            <a:ext cx="762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 (from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352680" y="3508200"/>
            <a:ext cx="381240" cy="609840"/>
            <a:chOff x="3352680" y="3508200"/>
            <a:chExt cx="381240" cy="609840"/>
          </a:xfrm>
        </p:grpSpPr>
        <p:sp>
          <p:nvSpPr>
            <p:cNvPr id="52" name=""/>
            <p:cNvSpPr/>
            <p:nvPr/>
          </p:nvSpPr>
          <p:spPr>
            <a:xfrm>
              <a:off x="3448080" y="3508200"/>
              <a:ext cx="19044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543120" y="368244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39984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54312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352680" y="38131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2286000" y="3429000"/>
            <a:ext cx="914400" cy="244440"/>
          </a:xfrm>
          <a:prstGeom prst="leftRightArrow">
            <a:avLst>
              <a:gd name="adj1" fmla="val 50000"/>
              <a:gd name="adj2" fmla="val 7446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84480" y="236232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19520" y="2793960"/>
            <a:ext cx="0" cy="673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5335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Parent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3276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79960" y="34322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62560" y="4052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32440" y="41036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48320" y="3809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Document"/>
          <p:cNvSpPr/>
          <p:nvPr/>
        </p:nvSpPr>
        <p:spPr>
          <a:xfrm>
            <a:off x="7086600" y="434340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23240" y="4330800"/>
            <a:ext cx="8254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Document"/>
          <p:cNvSpPr/>
          <p:nvPr/>
        </p:nvSpPr>
        <p:spPr>
          <a:xfrm>
            <a:off x="7086600" y="2438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35840" y="252720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7086600" y="34290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048440" y="35305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400800" y="304776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00800" y="3809880"/>
            <a:ext cx="67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00800" y="396252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05520" y="5029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118120" y="517212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oad the 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08400" y="5856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48240" y="5803920"/>
            <a:ext cx="69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343040" y="5613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5257800"/>
            <a:ext cx="685800" cy="7621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81280" y="5435640"/>
            <a:ext cx="83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200400" y="5613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8120" y="553716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715000" y="2209680"/>
            <a:ext cx="380880" cy="609840"/>
            <a:chOff x="5715000" y="2209680"/>
            <a:chExt cx="380880" cy="609840"/>
          </a:xfrm>
        </p:grpSpPr>
        <p:sp>
          <p:nvSpPr>
            <p:cNvPr id="85" name=""/>
            <p:cNvSpPr/>
            <p:nvPr/>
          </p:nvSpPr>
          <p:spPr>
            <a:xfrm>
              <a:off x="581004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0544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76252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054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1500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Document"/>
          <p:cNvSpPr/>
          <p:nvPr/>
        </p:nvSpPr>
        <p:spPr>
          <a:xfrm>
            <a:off x="4267080" y="1981080"/>
            <a:ext cx="990720" cy="828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5780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16320" y="1968480"/>
            <a:ext cx="10670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Parent Zone File (containing delegation to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05440" y="2895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477120" y="1371600"/>
            <a:ext cx="358560" cy="722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324480" y="137160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 flipH="1">
            <a:off x="6095520" y="2070000"/>
            <a:ext cx="26676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743880" y="1346040"/>
            <a:ext cx="914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blic keys at parent (ZSK and KS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2819520"/>
            <a:ext cx="167616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858000" y="5410080"/>
            <a:ext cx="380880" cy="609840"/>
            <a:chOff x="6858000" y="5410080"/>
            <a:chExt cx="380880" cy="609840"/>
          </a:xfrm>
        </p:grpSpPr>
        <p:sp>
          <p:nvSpPr>
            <p:cNvPr id="100" name=""/>
            <p:cNvSpPr/>
            <p:nvPr/>
          </p:nvSpPr>
          <p:spPr>
            <a:xfrm>
              <a:off x="6953040" y="54100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048440" y="55843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690552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4844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858000" y="57150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 flipH="1">
            <a:off x="7200720" y="5257800"/>
            <a:ext cx="368280" cy="36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6477120" y="5613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3200400"/>
            <a:ext cx="144756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42670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70200" y="4241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26Z</dcterms:modified>
  <cp:revision>154</cp:revision>
  <dc:subject/>
  <dc:title>Slide 1</dc:title>
</cp:coreProperties>
</file>