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EBFFCC-3EA8-4FB1-80CF-6F9D8DEA81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DAC022-D98E-41CE-B928-7DE6FE46A2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37B1DD-FED9-4B24-B0DD-AD019CC958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85B5B0-913A-49ED-882E-998B4EE780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38ABF2B-3E9B-4D25-8094-8D1106F8191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422442-F28F-4418-BEAD-FC384ABE5C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B7E00E-7483-4E1C-876B-483F12D310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45BAC3-6B82-4BAA-8109-7307D284F4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1BB48A-3A99-44CD-B257-ECAC3DE3ED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D0963E-37CB-4845-9D5D-04D7E55DC2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30503A-C6A1-40F3-B18E-213C222AFC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829D79-E1BC-42FF-B21E-078B7C2B56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245D3F-2595-4662-BC5A-75B617DA79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CFC352-6CAF-4C15-9ED0-C1FAC1A0A7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578F00-F2DD-4982-9BF0-7D11192B73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63B7B2D-49CA-4098-9EE5-EE0AD29501C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FE3EDCF-33AF-418B-BE8D-E3CF11E3AF4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159421-07BB-49CE-AF8C-F1861DAE6E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17B8DA-774B-4FB6-8A41-DA6E2EFAE3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526528-7A70-471D-9249-5451BF9414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F24AF6-54C2-42B9-855F-CD79AB66BB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0B59ED-DECF-4663-A8F3-12FAFD1133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1C0245-D878-4F79-A057-A1C8D7E1B4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115779-2B6F-4C86-8171-8FB13779B7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B3E640-5B1A-4274-BE3B-3383A534F85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04D8ED-6767-4C57-85CC-4CDFD3F4F47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186C261-A43D-4B2A-911F-55577F5C888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C28CFB3-2AE1-4FA4-B1E9-2CF2ADCEEAF0}"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65DD2A-083D-4910-BC2E-D4DEFE143369}"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5D8F01-9DA5-4CC3-BCB6-7FD8D8D192C6}"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23BA87-7E37-430A-A54B-580C82649087}"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313CD6-F1D7-4ADD-B112-CBE0D10EB25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2E3691-3413-4C23-8D6C-4C55103C558D}"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C9F57A-C6DE-45DF-B6B2-E4ACC21C4540}"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1A41EE-82AD-4541-9801-3F26CCDC430E}"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F79D61-734D-4274-A3DC-F593431C060F}"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633FCE-312C-45E8-8196-93F4B840A026}"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9854A2-FD80-4E91-A3A6-2B5A60910A89}"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48FC7A-1D72-4A12-9181-2AD19D5DAC44}"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6B1DFB-C791-4F26-8777-CB0F87621D96}"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C3B813-1641-4360-A730-B22F6374C45F}"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DFDB98-8EE9-410C-9A24-B1BF644DAA4C}"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8CDB75-3BCF-409F-A1AA-58FB626897DE}"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52B93F-0E56-43BB-92B5-654EE14F10FF}"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F6A75D-1CC2-405E-B964-FF9C0F932789}"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BF1252-43A4-4445-9C91-07E1699A9491}"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80A4AB-4059-4C6B-BE70-B4A83D46D691}"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696AEF-CC34-4F12-8A54-0ABBCEBC9C38}"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97E593-ECF9-4F13-A397-BA52A8C53CC4}"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237D8B-55B1-4597-B8BD-AF90B53AC47F}"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FBABBF-04C9-4B7D-983C-C54ABAFC1969}"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5FE347-1845-493B-8E06-2DD91FF81BB4}"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B7D206-8E85-4FA0-B81F-2227B6B8E0D0}"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05DCE77-E3C2-4DF3-B2A9-ECCD68E1DC93}"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0E4B18-2D4D-46D2-BA5C-10C412B6EABE}"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778C05-0580-43CD-BDFA-EC2D2941E542}"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1737D1-82F3-4EC7-A1A4-26EBBA99F8BB}"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9E10B1-52EE-4ECC-9D9C-2A69825B29AB}"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0D63A7-4B6B-4B30-8952-B927D7B4660D}"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DE354F-CA00-4E10-92C6-882D6BB00A00}"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88A493-9456-4058-98C9-1EFFA80676A3}"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F0D00C-264E-4E50-82E3-1F02F81923EF}"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39FDBD-3F34-4325-BAC0-A7DF6919A1B4}"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F7CD36-1648-404C-803D-72924087C683}"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61A4F8-8205-46D5-950E-1E8A1E683348}"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65F485-DC21-46EB-935A-674110EFD25F}"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9A1128-DF54-4A42-BE2F-52FCCB4D1F14}"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116669-4791-44C0-A221-F30C22DD0D09}"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BEDA5B-FD9F-48E6-92A9-22AB4A743889}"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D4F940-6D04-42A9-A818-52CB3C5A844F}"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92D88F-3F41-44BC-A53E-D052C8130632}"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A29C25-A61C-4EB8-A296-CDD928645D21}"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90C8B5-3B7C-4903-814F-83A2EF17D824}"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C069A3-1D73-4DBF-8B3F-4F6679D95EC7}"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AC6BF66-ECD2-4189-99DB-F66BB0F5FABF}"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FA2ECF-C8B3-4B7E-A1B7-92D6CD4D5BE3}"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942EF8-8157-41EC-8C14-B63FC06680BA}"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E465F83-5F10-4F4E-8742-41BAAC1A8526}"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40A8BE-09A6-4A1E-B9B6-474FCB324F4E}"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246BE4-18BD-4477-A0A5-AC5B44BD1760}"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27B1F5-03C7-4962-BDFD-850CE52A0488}"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C04065-1C9F-4749-9471-7B7198D6542F}"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C754A4-35D8-40C4-B15B-208B5F15DE16}"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3109ED-DCC6-4A50-BF4E-EA753392780B}"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1199A2-E9B4-4000-A481-09B50C6CDAD4}"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439AE56-E2A4-43A0-A65E-1184FDF76F8A}"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58C0FF-57C0-4AE7-9985-DC246E93EC51}"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AE1E49-4ED3-4759-86B6-F81E331CA862}"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439DD9-3009-430F-A923-340581229A7C}"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455CBA-C603-44D6-9F99-6E9ED520FEE9}"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E20521-7089-4088-99A3-68D3B03F07A3}"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DB04292-815E-451F-808E-6EE42CB3552B}"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E73AAF-28A8-42A5-8D97-A30DE64544A9}"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0B21D7-544F-422B-8E24-7BFD4117706A}"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6FB0B4-DA6E-4D6A-B3F2-5221D1CC3BDE}"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5161A0-AF9A-4184-95C1-D7EA31F6E5F0}"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BE1D77B-F4A3-48E0-B051-FD6796E5F9DB}"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33A82F-113F-4AE2-8AB1-EBFE00B1EBD3}"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063D9B-5652-4667-BD93-47B5724CC48D}"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48A2FD-049F-4245-92F3-31378512E05B}"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59A474-83D0-4850-B3AA-A45CE28CE2AE}"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6CF12C-F75E-4ED0-B5E7-0069F158E8EA}"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70EB43-B667-49C5-BC45-3732929C96D8}"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25B8ACB-7FC6-4A3A-B355-A7B13D65C502}"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D06D1C-EB48-4D99-945C-4B4AEF797D3C}"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1F5D8F-274D-4268-97DB-B061C787E801}"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7AA875-9831-46F2-9B27-E5FEFDA6DA2E}"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752737D-E016-473C-ADDC-2B2FFECA0B86}"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75AA62-9EA0-40C0-B2FF-EAA8919800A0}"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8DD95C4-65BA-4FFE-B806-6002C96B73C5}"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C1248E-774C-4DC8-96E8-15C8D7EFE389}"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7F5430-1798-4275-9072-373A94193FF1}"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2AA417-D71D-4D1D-ADF0-17550738B710}"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F4E255-631A-44A2-836D-F93CF3760538}"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56482E-31D5-4F49-9B1C-4D0FCEAD273F}"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4F690F-72B6-4DC4-83A9-C420AF4955C3}"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18E0D8-FF48-4931-8689-3CEAC123F9F0}"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444E8D-A49E-43FD-8FF7-9A0AB5790FBA}"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C22C7F-3BC0-4AC2-9387-AC1BC7B3D4F2}"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6A47D1-66D0-4BDB-90C7-491736D0591B}"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850401-DAFD-4F38-8259-DFCDC4313FAB}"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4B0B0A-1029-4B9C-A847-49752DAAA4BC}"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FA1238-8301-4F90-9FCF-C752699DB457}"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556D50-488C-4BBC-B802-42BA84147FEF}"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8B5427-DFFD-430E-912A-5A21BD540F28}"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35D7EB6-AF6C-481C-95DD-FB6E62B2DA39}"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F61309-4570-450E-9741-834366479F69}"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5B76A3-6F2A-42CB-9617-61F9B8B4D371}"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65AB65-11D7-4931-BDAE-FA9247694761}"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0D5A80-A12A-44C2-BBCD-84335B9A93B2}"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893A84-E0D5-4DC6-AB7F-51F55B3A753B}"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FC6337-30C2-42B6-B817-E6D8C964B17E}"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6308CF-B00D-4932-9129-5AFC1C63E06E}"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A0A69F-8D31-4FB3-A3C7-1C0F3DE97C6B}"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2C81F2-60C7-4744-9BCF-F2472299A709}"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E715F9-7C26-4E2C-B00D-9AC0537F23A2}"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F1516C-6601-45D3-A580-34B796E22027}"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1B609A-DA1F-42B6-9000-3C9BE247E8B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3FDD88-2D0A-473C-A31E-336A811F42E8}"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A40CCA-83AD-46A4-90B5-B13E4387CC2E}"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84B566-B0EC-4BCC-9ED8-3AFEFCF44A23}"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289302-C9D6-4574-9FB6-705EBD6F3D21}"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D06E41-3D33-4FB1-B3BC-E2B4B44A0092}"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3F89BF-A0A8-4B76-9A0E-727226C69E76}"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F1C8BB-7755-4D5C-832D-6E74B4ECC746}"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442FE8-A135-4F70-9843-FD550D8E5722}"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A0774F-05D8-49AF-9929-70512A1EA07A}"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03891B-32AF-48B9-8C52-B53BC86CDD00}"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947856-F95E-412B-B529-560A1F21633C}"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FB28F1-94A7-4D29-A3F4-7E2E4E683DE9}"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1C8898-4623-42D4-9A53-CD14F8296BB0}"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541D28-A545-48A1-8CE4-362F9EC92392}"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13EB0F-843B-4321-B8A6-2F345AB8090E}"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66BE357-B591-447F-9A8E-C775804D5D64}"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5F015D-DB11-4ED0-8F05-A873E812D8B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AEA5A8-CCD1-4D02-A6B6-AE4687BCECB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D8CF4D-C212-40E3-A38D-33CF1AA15BF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357AAD-EB77-4DAF-A934-B460139EEB9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5CC993-2E1E-4C49-B596-03B11290336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36E153-CD08-44D4-BBD9-6C858F93C19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F802411-D45A-4B69-A69A-A562946B361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8FC5EC-3E3E-4380-86BA-65E20BE7C0C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A6FA29-C5E9-44A3-AA5E-CDDA2501BAB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D540AF-2880-4960-B15E-5148B1E09C9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C2EA54-7DE9-4E08-A336-373F2958905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710C37-7854-45E0-8947-B441A97B169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783CF5-F6E7-4F33-A66A-6C60A406EEF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E6F7D3-09F3-47A2-80A0-D3C57BFDB65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A07C37-2301-49E2-983D-8FD71E6CD32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00DD18-D16A-4DC1-9304-89352880AEC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A521CA-561F-48FE-947D-67AF5B9E908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83EE98-249E-4C66-A63C-FB63179AC49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4E4E3D-E190-43B8-9D02-66BF5ACF19A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444782-08E6-4F8D-945D-8E254734769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94F59D-A6AD-4DB1-91CE-538C53C3796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721F0E-C88E-45E1-834E-6ED1E00311E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3C2D9F-41FB-429F-B174-29F561F3416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79E378-7687-4ADC-B494-7387FAAEECF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A8273F-161D-48E1-9793-2885E539EEA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624030-CE30-4159-A0BC-9C70C415E5C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135B49-DC69-439A-8C25-2C11161BF5C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9101BB-FA14-4AB0-8A91-7DBCBC6489F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A00474-369F-42BD-8416-F9AF48B24D1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2C607D-797E-4083-906D-3A3CBB4C05A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164F3B-C098-4456-A55C-92DAB7641F6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E9D091-95F3-44DB-A343-F71B512A205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FD3597-BBFC-48C6-9E12-2268496CD76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2A6FC5-C826-40DE-9C04-5377AAC1D11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F20B10-2830-42D6-A6EF-E4CA1E350C9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C066F5-54A6-4149-8C64-F0D8519F645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7B8E28-FFBB-448E-A770-CCBC6EB9BD67}"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D84BB2-38ED-4436-9C89-9F1BD5DAB08C}"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20790E-D4A1-46FA-9FEE-BCA4725010B5}"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6E0800-6525-4277-9533-12778800BBA2}"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CA4088-8EF9-4928-A9EC-7D2FE887D5E2}"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CF888C-CF3B-42FF-B9CF-EA90E2680A3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49FCAF-871F-4A35-B5A3-137819399037}"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9837A7-CC68-4BDA-B7E7-A2F98D86215D}"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8D685F-744B-476E-A697-357B2E193A9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01C9B7-1ADC-4288-8562-6268461C535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F9D8DD-40EE-4552-B6BF-06C066E6749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16CD3DF-9130-4679-BC82-6E27F41530B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3B72FF-2327-4871-8BD6-9C6229259E4E}"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848764-C268-4FF6-BDAF-2ED8751190F6}"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7C9ED0-8D6E-4B44-B80E-D039C60B418E}"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BF8B39-067E-4C9A-9122-5AB6A69358E9}"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42793D-66CB-4947-BE5E-E666E3862CD8}"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0F883D-7DD1-4953-8691-2714590B117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88E4C9-2D84-40C6-B54A-8AC41D5471DB}"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762B89-057D-4793-8FB4-F148D0299C0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CD73842-4DE8-4B48-B137-C0236A0DD36E}"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04351F-C749-4233-8230-B88BFB0E9ECD}"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96762A-17A0-4D95-B525-0D5E80A8D2A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B4FADE-E90E-43C9-B97C-36C857A00461}"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88E7D0-5C13-4E9B-9840-DBB484E38E8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EE59D3-BADF-4983-9661-2B386759585A}"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96E2E2-1B5E-4E7C-9510-A3D72B6ACAB5}"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547F22-1C58-4A0F-9D15-086AB2AB96A6}"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9237E0-92D9-44FF-B212-F0A38008F6E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68382C-F102-4C7C-97D7-8B02F6A0DB46}"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D95DE0-37FF-4BD6-AB31-E2DC478E6EA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B48017-ACCD-48D7-99A9-D886361BA24F}"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674E39-A1AC-46EF-9CB1-11E6A6352377}"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32311C-51BE-4C87-9052-5B7BCF646DF2}"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D801C8-EEE6-47F5-9FA4-891DD91F39E2}"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D9534F5-0F49-4E3F-9F48-C0AA6290FB2D}"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FE5C3A-23E8-4D51-AD76-B0F3735E656D}"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A569B8-5135-4DA3-AB9B-6DB6E0FF0A7F}"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D573DA-41DD-4742-BD65-D5992454CABD}"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47B5F7-187B-471F-8452-93F2EA41448C}"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8C820A-BCE5-460D-8644-4A2B4D5645F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89C7C7-4D8E-4AA1-8814-0BEC0169103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934754-2FC9-450D-8833-5FE11A0DF626}"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98B135-B698-493D-80C5-94BA3EC065FE}"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2CC11A-50CA-4862-844F-FCBCBDEBBB57}"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D43C87-6EF3-47C8-9F79-5B074981C6B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DD87B8-B8CA-4E71-A0D8-06FBF611ABC8}"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E454A8-E429-439B-83C8-CBA507173CAE}"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075981-5642-424F-B025-313783E4FCB0}"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