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23026"/>
        <c:axId val="33197602"/>
      </c:barChart>
      <c:catAx>
        <c:axId val="15023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97602"/>
        <c:crosses val="autoZero"/>
        <c:auto val="1"/>
        <c:lblAlgn val="ctr"/>
        <c:lblOffset val="100"/>
        <c:noMultiLvlLbl val="0"/>
      </c:catAx>
      <c:valAx>
        <c:axId val="33197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23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678-D035-4233-8CE5-C802E068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35B-FEE1-42A7-91E8-111BCCFB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2FF-372B-4FE1-A90A-09F1F547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B95-FEF4-464C-AB3C-CD0694CA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41C-B00F-4524-B46A-C6D6FFB9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299-827E-46E6-A8CE-BF2BE3DF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FA2-576B-455B-9322-C70B963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6AE-3811-4F42-8A49-721EB80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093-552C-4C34-BA16-55BF162B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59A-B04A-47FC-A83F-5F7933F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B8F-D0A1-44B1-AF4D-C308C94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A5C-6872-4638-8C3F-C410371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E6C52-A1D5-4DCE-96F9-BA5321A0BC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