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48970"/>
        <c:axId val="55614745"/>
      </c:barChart>
      <c:catAx>
        <c:axId val="21348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14745"/>
        <c:crosses val="autoZero"/>
        <c:auto val="1"/>
        <c:lblAlgn val="ctr"/>
        <c:lblOffset val="100"/>
        <c:noMultiLvlLbl val="0"/>
      </c:catAx>
      <c:valAx>
        <c:axId val="55614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48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51E-FBF5-4870-981B-D556E2F4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60E-85F2-473D-80AF-8513BCF7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30F-8316-443E-9A24-93847D63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AC6-3FF6-4256-9EDF-16768026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FF6-5650-49A7-BFF8-38EC1CBF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E5F-9DC1-4CF1-BAED-6A9E72C2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0BC-91D6-4744-BD79-990DC125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45C-74F7-4069-A2DB-3EFC81DD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19B-9EA9-4489-BC53-C5363D27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FF3-5BFE-4B9E-9834-783A48F3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CC9-A792-4E95-8393-888FF211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511-BF18-44D5-B4B2-4BF20C87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DA225-909C-4145-AE3F-F00577415B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