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03940"/>
        <c:axId val="58251039"/>
      </c:barChart>
      <c:catAx>
        <c:axId val="43703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51039"/>
        <c:crosses val="autoZero"/>
        <c:auto val="1"/>
        <c:lblAlgn val="ctr"/>
        <c:lblOffset val="100"/>
        <c:noMultiLvlLbl val="0"/>
      </c:catAx>
      <c:valAx>
        <c:axId val="58251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03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93C-8E19-4CB7-A3FB-50B46A06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3F7-69D3-4143-82A3-012A289C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934-4D90-42AE-82FF-A823FB24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A09-325B-43F9-813E-B1988EBB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547-B9C1-4001-B318-5F851917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987-925D-4FD1-B044-42B4ED83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E4F-CDA8-45D6-9365-EB3D928D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53A-4FF4-42DE-B4B0-CFF3EB9B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246-0157-4708-817F-1AF23B1B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55B-949B-44E7-81C9-A78F836B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BF5-758D-4628-A14C-0C28DE45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9D5-098E-4ACA-ABAA-02625A4C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28C3D-8F4D-4142-9D66-339BCAF89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