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59639"/>
        <c:axId val="43894870"/>
      </c:barChart>
      <c:catAx>
        <c:axId val="90959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94870"/>
        <c:crosses val="autoZero"/>
        <c:auto val="1"/>
        <c:lblAlgn val="ctr"/>
        <c:lblOffset val="100"/>
        <c:noMultiLvlLbl val="0"/>
      </c:catAx>
      <c:valAx>
        <c:axId val="43894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59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2E55-0EF0-4C42-9174-37A78986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828-EAEE-42A7-972B-2D2599C9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BB0-8D48-4B94-9EA0-E7991524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8E7-D777-41D5-8A70-AB26A08C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A15-423D-40D5-B262-5DB12FCC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49D-E37B-4AC2-A90B-9E54CA40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FB9-9829-45C8-9699-970D9BF0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4B3-4B4E-4E30-8124-F58E6AA7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5C6-872E-47BC-A071-38F359BE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1DC-6856-40C2-8F13-3F3E4B4A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FF9-DC0E-418C-96F7-9DD91603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1C2F-21A4-4A9C-927D-1C58FE36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90B6D-DFA0-4B41-9E70-81122B2771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