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889797"/>
        <c:axId val="14132941"/>
      </c:barChart>
      <c:catAx>
        <c:axId val="408897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132941"/>
        <c:crosses val="autoZero"/>
        <c:auto val="1"/>
        <c:lblAlgn val="ctr"/>
        <c:lblOffset val="100"/>
        <c:noMultiLvlLbl val="0"/>
      </c:catAx>
      <c:valAx>
        <c:axId val="141329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8897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C7DF-624E-4EDB-8B15-8CACB4FDE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6CE9-D29A-41B2-BCB7-07ED4ADA9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A63E-E736-43AA-B2D3-A0E6A99B4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8161-89BB-4062-9CAF-B2817C313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7B26-7544-4CD8-9966-4F7806E1A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1CCF-8440-49B6-B453-8C9F246FE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773C-0706-47F6-9C6F-F976F1A9C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FE7A-9495-44F2-9FEF-41085AF77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BA37-8D4C-4641-9ECC-4306D589F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822B-D1F1-462D-A6FF-5B9B0B7E5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F029-6AB6-4B15-A8B5-7FACAF91A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B35A-CABD-4F89-82DF-1EDB7243F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701CEC-A09B-42E8-8665-EFBBD2A0176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