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83877"/>
        <c:axId val="8252520"/>
      </c:barChart>
      <c:catAx>
        <c:axId val="34883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2520"/>
        <c:crosses val="autoZero"/>
        <c:auto val="1"/>
        <c:lblAlgn val="ctr"/>
        <c:lblOffset val="100"/>
        <c:noMultiLvlLbl val="0"/>
      </c:catAx>
      <c:valAx>
        <c:axId val="8252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83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D4B-5ABC-4FCB-A6AC-95CD9514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366-097E-4234-AD31-7D281AF2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16E-9C30-44B8-A66D-5464204B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9AF-79E6-4EE3-AA17-E01389ED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AC0-50F8-4D3C-BD23-216AED97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813-0F6A-49DC-BD08-3DB1F65D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CCD-4629-4FAC-8B5D-0D10EC2D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DB7-723C-4232-B28F-46677C47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4E3-C06D-4BFB-B826-1CC5C137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3C6-115E-4FA4-AAAF-0598E5F2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5A0-91BC-435C-8D7D-DF7A0642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1DA-7A45-4D66-A14E-9DC51EC9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B88CC-25D9-4C84-B136-DF753095C1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