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79543"/>
        <c:axId val="59108908"/>
      </c:barChart>
      <c:catAx>
        <c:axId val="35079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8908"/>
        <c:crosses val="autoZero"/>
        <c:auto val="1"/>
        <c:lblAlgn val="ctr"/>
        <c:lblOffset val="100"/>
        <c:noMultiLvlLbl val="0"/>
      </c:catAx>
      <c:valAx>
        <c:axId val="59108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9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7A1-FA8B-4B84-9329-EFA41907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FF1-AE74-4016-9B40-1A5E470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2D6-B131-4F9D-B695-8326BAD1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459-7083-41E1-9C41-6C11BD5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8D9-697F-42AD-8EAE-9B9EA3D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189-3E0F-4B28-B80D-551680F1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A8D-6AEA-43C4-A85F-EB9D0D9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5B1-5BAE-4EE6-AF4C-6190BD0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E30-79B5-434E-990C-C7E0C0A8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9CC-A774-4267-A08B-99CFECE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C65-FB5F-4FA5-B68C-FDC5308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3D9-4269-448C-A31F-C99E40F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3371C-BD48-4873-B707-5CE6C6478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