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16796"/>
        <c:axId val="48472072"/>
      </c:barChart>
      <c:catAx>
        <c:axId val="27516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72072"/>
        <c:crosses val="autoZero"/>
        <c:auto val="1"/>
        <c:lblAlgn val="ctr"/>
        <c:lblOffset val="100"/>
        <c:noMultiLvlLbl val="0"/>
      </c:catAx>
      <c:valAx>
        <c:axId val="48472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6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059-719A-4444-8EC3-D2AF5028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DAB-B4FD-4B4D-9088-3C4C33E1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778-3214-4C5C-94CA-00DE1871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816-E232-4916-9E46-FFB55C00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1F2-BE20-45DA-BB8F-2747F6E7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149-3106-4C4B-98B6-859F8B48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A4F-70C6-40E4-BE1E-5EDB18A0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D7A-3E44-49AF-8C4A-E52770B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CA0-3DC5-4E8B-A3EF-6890B616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D39-57C8-486D-A93B-4962BBE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10A-6C16-4563-A293-C53A0DB7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6A2-7971-41E7-898F-2B6FBC37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4451C-23B7-4315-AC8B-2559FFB76C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