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5476512"/>
        <c:axId val="57117718"/>
      </c:barChart>
      <c:catAx>
        <c:axId val="7547651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117718"/>
        <c:crosses val="autoZero"/>
        <c:auto val="1"/>
        <c:lblAlgn val="ctr"/>
        <c:lblOffset val="100"/>
        <c:noMultiLvlLbl val="0"/>
      </c:catAx>
      <c:valAx>
        <c:axId val="5711771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47651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B4A49-06F5-440F-8E72-0455EDE74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87FB6-5E91-4B72-86D0-5632BBBF3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A5248-36B7-4169-A581-81F098BBE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7F657-2E6C-4945-9C30-AF2AE9D1E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FECAF-6A80-4AFF-ACA4-2200A2114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E4DD1-CF74-4863-8748-506B4D287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B3C39-3AF0-4136-B630-A1DA63E99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95188-E667-496D-88EB-432DF1C84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5F97B-FD7E-44D8-9FD2-3E00EDB8C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38A33-82D5-4F83-8232-1329BF4ED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0880B-9E68-4EBA-97A8-31B015AFD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82E47-D18D-452F-A38A-D22476AF2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CDDB9E-FBE7-4A48-84AB-4F4DA1F6F11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