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06696"/>
        <c:axId val="13586313"/>
      </c:barChart>
      <c:catAx>
        <c:axId val="36906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86313"/>
        <c:crosses val="autoZero"/>
        <c:auto val="1"/>
        <c:lblAlgn val="ctr"/>
        <c:lblOffset val="100"/>
        <c:noMultiLvlLbl val="0"/>
      </c:catAx>
      <c:valAx>
        <c:axId val="13586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06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30F-664D-4A97-8953-9B4FAFC6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7E0-49BA-4D71-B0B6-161ABE7F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155-43DA-4E3E-9A9C-33B4E45B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4F4-54AA-4496-B2CC-B854AE00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B9B-DE13-4C59-9E57-C2EDD78A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737-B5F6-4ED6-85A6-C4F235F5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B02-5EA2-41A5-A3F5-FE14193D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EDB-C6FF-4241-9CB8-842EDD5F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567-E4C9-4CEF-A799-B4B099E2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827-6975-4640-9575-D80DC5E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2D5-7D77-44FB-B7F0-D9DE737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6E1-C386-441B-82FE-9614C8D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4D1D2-922B-4B5D-8B94-B420E0AEA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