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596283"/>
        <c:axId val="68570215"/>
      </c:barChart>
      <c:catAx>
        <c:axId val="945962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570215"/>
        <c:crosses val="autoZero"/>
        <c:auto val="1"/>
        <c:lblAlgn val="ctr"/>
        <c:lblOffset val="100"/>
        <c:noMultiLvlLbl val="0"/>
      </c:catAx>
      <c:valAx>
        <c:axId val="685702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5962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7A48-1C40-421C-8868-7B72E00FD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0A37-96CE-4D6A-AB25-AC6CF813E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16C2-33B6-4DBD-B4C9-1B8FF24B4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D6E9-2A01-4665-8288-331B0B129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A5BE-C44B-4C69-8B9A-90C6E9E59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891A-7856-4DBB-893F-8DFA5CF3C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1C73-1718-45D5-A671-427CB9C8D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60E6-02AE-407A-A295-A57324362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FD68-77AC-42E6-BCB7-A74D66AEB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7AAE-75CF-4E2E-AD38-AFD71627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50CA-22F8-415A-A19E-B358AF618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108D-109E-421A-A72D-1F7CFCA4C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8846AB-39D4-49D5-973E-3679A119073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