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61838"/>
        <c:axId val="99781676"/>
      </c:barChart>
      <c:catAx>
        <c:axId val="71661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81676"/>
        <c:crosses val="autoZero"/>
        <c:auto val="1"/>
        <c:lblAlgn val="ctr"/>
        <c:lblOffset val="100"/>
        <c:noMultiLvlLbl val="0"/>
      </c:catAx>
      <c:valAx>
        <c:axId val="99781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61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F14-C1F4-42FA-8F5E-CA960575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A04-41B1-46A5-B325-E678F01E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955-C166-49F7-B278-8B02C202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F9-CD4F-4702-AC6B-4232427E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5D2-8EFD-45CE-A361-A3C8711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9F8-DA30-4230-B97D-C9243544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DFD-4F2A-44B3-B76C-84B404CD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8BB-050D-4FD7-A9F4-723A72E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693-062F-448A-8C88-4EDC57D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7ED-20DA-4CB2-97CB-07FE5294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3C1-565C-4956-8DB7-F8071BC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675-849F-439A-A4A6-236A910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44CAA-D615-4865-8AFB-3580E4649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