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199261"/>
        <c:axId val="21231485"/>
      </c:barChart>
      <c:catAx>
        <c:axId val="319926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231485"/>
        <c:crosses val="autoZero"/>
        <c:auto val="1"/>
        <c:lblAlgn val="ctr"/>
        <c:lblOffset val="100"/>
        <c:noMultiLvlLbl val="0"/>
      </c:catAx>
      <c:valAx>
        <c:axId val="2123148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9926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9767-FE68-413B-8EE0-05787C098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2342-9EEF-4BE3-BAB3-072C0C77B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0285-B2F8-4DAE-9A1E-B613396A3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8E84-5095-4BED-AF7E-7BD5D57A5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960B-52D4-4862-91D3-A31632112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BFC8-E44F-4CC2-9513-DEA280956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415B-4837-4DE4-BC09-898AEBD8C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2DA9-7862-4FE1-A3D3-B6B1C120D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36D0-7590-4484-B4F7-9ACF9F975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7B5B-DBE7-4C5A-82B0-F3C3DAEAF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76B0-0E18-4386-B6EB-319157897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ED94-3663-4F0B-AFDD-5A4D6D89C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D55879-7BE9-44E4-876E-387441E703C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