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617971"/>
        <c:axId val="10706949"/>
      </c:barChart>
      <c:catAx>
        <c:axId val="986179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706949"/>
        <c:crosses val="autoZero"/>
        <c:auto val="1"/>
        <c:lblAlgn val="ctr"/>
        <c:lblOffset val="100"/>
        <c:noMultiLvlLbl val="0"/>
      </c:catAx>
      <c:valAx>
        <c:axId val="107069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6179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577B-3236-42CE-9B3B-AD50EB532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68F9-4CC7-4D51-94E7-550D0C48E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D628-FA49-48E1-8ACD-1F449E4B3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A8F6-E423-46BD-B106-F49A51172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8D35-8010-4AA6-BADD-63F611336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BD0E-D227-4098-8B7E-12E35C8AE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408A-4C96-4EF1-8A0A-9E68118E4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210C-4C02-4FE1-BECF-3D71CBE1B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3DD3-006D-4331-B77B-314EEC0B4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73A8-ADBF-4F04-8E5C-8B5AABA87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D0FB-EA7C-46C4-9C1B-CB70789F3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6E4C-354E-4ED7-8A59-D2DA67F08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D2EA60-9760-4C5F-AF04-CABC73EF636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