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648398"/>
        <c:axId val="67170179"/>
      </c:barChart>
      <c:catAx>
        <c:axId val="216483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170179"/>
        <c:crosses val="autoZero"/>
        <c:auto val="1"/>
        <c:lblAlgn val="ctr"/>
        <c:lblOffset val="100"/>
        <c:noMultiLvlLbl val="0"/>
      </c:catAx>
      <c:valAx>
        <c:axId val="671701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483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4761-5D92-4440-8056-41BB53469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2D69-93EA-4387-B180-023225AE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9744-2829-4822-974D-04858E4DD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F4F0-F28C-44C5-9163-6335AF73F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FF3C-274D-4B8F-80BD-C9E3364B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DB0F-1B70-453C-857F-9AD8B9D5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4676-2509-419D-9EAB-22C8F756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6839-D678-4118-BA41-540A0C0C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3A60-2979-4F90-A608-4D317B17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815D-EAE2-4752-A0B3-B24EBF1D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FE96-4BE9-46E1-A747-E615000F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69DF-54AD-4244-9872-D2EA4CE0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D5F7B-0AE1-4579-AE0F-7343F07ACC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