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39593"/>
        <c:axId val="82675073"/>
      </c:barChart>
      <c:catAx>
        <c:axId val="29939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75073"/>
        <c:crosses val="autoZero"/>
        <c:auto val="1"/>
        <c:lblAlgn val="ctr"/>
        <c:lblOffset val="100"/>
        <c:noMultiLvlLbl val="0"/>
      </c:catAx>
      <c:valAx>
        <c:axId val="82675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39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010-2B95-4E23-A178-51B7FB76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2C6-3C40-4141-9043-E7A1B213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9A3-0529-47D3-9B83-8F76291A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E80-573B-4037-941C-F149FC4E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5A6-5813-49CC-A374-A8EC9772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C2A-3347-4888-9CE8-5208460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B10-AC06-4ED7-AF2A-AFD26398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617-E3AC-412A-8504-9C65FA7B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037-3E2D-4E17-AF2D-C9C6DD5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B4F-0E5C-40B9-B8D7-419237F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FDC-4D24-4735-AE60-12172C1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FE2-02C8-446E-83C8-9408D99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2DB22-C77C-4B51-A418-560D3886E8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