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90929"/>
        <c:axId val="20887772"/>
      </c:barChart>
      <c:catAx>
        <c:axId val="75790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7772"/>
        <c:crosses val="autoZero"/>
        <c:auto val="1"/>
        <c:lblAlgn val="ctr"/>
        <c:lblOffset val="100"/>
        <c:noMultiLvlLbl val="0"/>
      </c:catAx>
      <c:valAx>
        <c:axId val="20887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90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257-172C-4FF4-A199-A0DF6111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47D-BA60-4E88-9522-ABD0DDFB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B15-CEAD-4859-A837-A91730C3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19A-931D-4C14-AC19-95797B71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540-D8E0-4583-8F4F-C61464EB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6F0-01F6-4DB5-807D-F9ECCF77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529-6B99-4A4D-A95E-4AE00875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3C0-D312-42D5-BB37-24CB044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3D7-79DD-4A30-86C8-058944D6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00A-923E-4B9E-8D90-45CA2EA4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F2B-A23F-4B64-9F89-66E21C6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77D-FCC7-4E51-8B24-7F1E2A5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8BDD3-4753-49FE-968C-ACD42D4F5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