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39767"/>
        <c:axId val="84321851"/>
      </c:barChart>
      <c:catAx>
        <c:axId val="11539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1851"/>
        <c:crosses val="autoZero"/>
        <c:auto val="1"/>
        <c:lblAlgn val="ctr"/>
        <c:lblOffset val="100"/>
        <c:noMultiLvlLbl val="0"/>
      </c:catAx>
      <c:valAx>
        <c:axId val="84321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9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683-EC12-40A0-B425-39B3ADAE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DDC-0E77-40C5-A093-4C051C8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4C5-6476-4771-A22B-9F2725F6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88F-E694-4F1A-AB3B-374CDC3A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3E2-EFAA-4AC1-98A5-98BA319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8E8-F360-4095-AE17-7BAAC4F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B87-1222-4806-B4F8-0B42F82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154-BE58-4C86-BC02-E05160A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5A1-9B6F-4F53-93B6-7681546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E3C-96B4-4620-A4A1-74847BA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D81-8E8E-46D3-B411-C2CBF54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853-C7BC-4815-98F3-D311742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AD2D-A29A-435F-809E-E7B79BE60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