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29717"/>
        <c:axId val="82733142"/>
      </c:barChart>
      <c:catAx>
        <c:axId val="22029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33142"/>
        <c:crosses val="autoZero"/>
        <c:auto val="1"/>
        <c:lblAlgn val="ctr"/>
        <c:lblOffset val="100"/>
        <c:noMultiLvlLbl val="0"/>
      </c:catAx>
      <c:valAx>
        <c:axId val="827331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29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9052-62E0-4B78-8A6E-82995350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C3CB-721D-4B4D-9394-E40C2A1F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872-5BE3-45D9-B599-67AF95C1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C4BE-3AFC-48D1-81BF-1625B202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FA8B-2D8C-4046-A16C-2E826BB6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ADAF-5538-49AF-AFF3-D0339D0A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6379-9452-4C46-94C1-9772056B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152-D95F-47C1-9186-0E5E2730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2EC-6DBF-43F7-BF13-BDEABEF8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C08C-AC79-4B7D-9BDD-80EDDD8E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FA46-68AF-408E-9D1E-2064A660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591-2A49-4BD7-A79B-5C10AAD5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CB7A4-FE71-4637-96C3-732091070F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