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83115"/>
        <c:axId val="41454885"/>
      </c:barChart>
      <c:catAx>
        <c:axId val="414831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54885"/>
        <c:crosses val="autoZero"/>
        <c:auto val="1"/>
        <c:lblAlgn val="ctr"/>
        <c:lblOffset val="100"/>
        <c:noMultiLvlLbl val="0"/>
      </c:catAx>
      <c:valAx>
        <c:axId val="41454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831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D67-7A0C-4450-AE0E-0AA4D186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85F-29AC-41C7-99F9-7787EB33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6155-782A-4D87-BB3C-F9CEBC0D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381-3E26-4B5F-9F5F-27F03C51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A9A-E0AF-4155-9D24-F68E84AA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864-A208-43B3-899C-7D803079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126-5A8C-4258-92DA-D808F1C3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D232-4998-43F3-8816-FE120269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270-3263-404F-A6AD-0995DD8C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E36C-E003-4B8F-898B-8107E2A6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F107-AFD5-4265-BB5A-8FE547F7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5488-D02E-4BE4-A171-CEDEB2F4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629E2-3A55-4FD1-800B-85AAEDFB43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