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80041"/>
        <c:axId val="25324216"/>
      </c:barChart>
      <c:catAx>
        <c:axId val="74680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24216"/>
        <c:crosses val="autoZero"/>
        <c:auto val="1"/>
        <c:lblAlgn val="ctr"/>
        <c:lblOffset val="100"/>
        <c:noMultiLvlLbl val="0"/>
      </c:catAx>
      <c:valAx>
        <c:axId val="25324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80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B84-35E3-40FD-A640-F51698E4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8F7-463F-4F46-B9ED-8BE7334F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A19-748F-4F22-9A4E-B6596FC2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D3C-F10E-49B2-A96C-EF1C4D27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94B-97E7-44BF-8592-2A5BA158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6B5-CDA6-4747-918E-1CCD5D06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EDC-B7A7-4436-8CF9-E448F19E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77F-B43B-4582-A6DE-5CB8F07C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7CE-034A-4BA0-8C4B-70DDD954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C92-3B7D-4A60-866C-C6154C3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E95-4AA4-42EC-BC00-70A50335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C1B-1A5A-428D-9182-207E44F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962D6-9DCC-4887-A1F6-8DF582C146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