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468766"/>
        <c:axId val="7666830"/>
      </c:barChart>
      <c:catAx>
        <c:axId val="324687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6830"/>
        <c:crosses val="autoZero"/>
        <c:auto val="1"/>
        <c:lblAlgn val="ctr"/>
        <c:lblOffset val="100"/>
        <c:noMultiLvlLbl val="0"/>
      </c:catAx>
      <c:valAx>
        <c:axId val="76668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687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1E7E-8C51-4B71-B7C5-3BEFF440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8CC0-C38A-4003-B1D6-816F0ABF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70F3-DD81-40E1-ADAE-85C9850A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4A3-6DC7-4C9C-927E-802D2248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7D95-ACDA-4138-939D-24801738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8A88-5771-4E45-89A7-3DF2868C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2A4E-1EF0-478F-8C42-EF3DFBAC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6099-C660-4E4D-AD81-5D09B938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1A08-8D34-4E43-86EC-7934BEE9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3F02-8A49-4084-B245-80BBC8E7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FBBA-4317-4AF3-A924-26520D65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0B1F-EE6F-41E7-869E-2A7925F1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C13B0-CBC1-426B-8A8A-C60FA8A61B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