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4780183"/>
        <c:axId val="81257318"/>
      </c:barChart>
      <c:catAx>
        <c:axId val="2478018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257318"/>
        <c:crosses val="autoZero"/>
        <c:auto val="1"/>
        <c:lblAlgn val="ctr"/>
        <c:lblOffset val="100"/>
        <c:noMultiLvlLbl val="0"/>
      </c:catAx>
      <c:valAx>
        <c:axId val="8125731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78018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1C8AA-7C5F-4972-97AA-C4ACA3D61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3DECA-291E-4FFC-8E62-5D0A91CC8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495FD-DC0A-4559-A6D2-08482513C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9F054-DE77-44DF-BB83-CE74FD968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EEF7D-666D-4FE7-ADBC-EE4E6E933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5D92A-A187-40A6-B5B2-94FD298EB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1790F-8222-4007-8367-45BAB7927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23B54-3127-4A1C-AFE3-CB5EDAEA2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C2D04-7544-411C-A9B1-7DA65699A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E2F34-7F2C-41B2-BD4A-59FF929D0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8DA36-7EC8-42DC-809D-2E4DFE4BC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A28CB-AD2B-4EB5-A548-5EAC95B4D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6DE9E0-783F-4CCC-9B4A-9401DECEA88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