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78300"/>
        <c:axId val="99640705"/>
      </c:barChart>
      <c:catAx>
        <c:axId val="50178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0705"/>
        <c:crosses val="autoZero"/>
        <c:auto val="1"/>
        <c:lblAlgn val="ctr"/>
        <c:lblOffset val="100"/>
        <c:noMultiLvlLbl val="0"/>
      </c:catAx>
      <c:valAx>
        <c:axId val="99640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8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EE0-634A-4DBA-90B1-4ED5CDD5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327-FF60-4AA2-B614-053760A2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01B-9C38-4BD2-99B3-3FFB9F00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65B-6D29-4E4A-8365-F6E9A2B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EE6-25B6-4D06-BA8B-261185F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D82-AF06-4D08-9404-306B126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D81-6E7D-431B-86FA-F62A745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201-1CFD-47B3-B622-62E285F7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0BE-0C78-4691-BCDE-D09ABD9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C0F-D2E6-4A6E-BF3A-E5D6D4A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D03-22E1-406F-AC99-EB80DD81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261-3F31-4A35-B6E0-BBAEB0E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2F902-A24B-4CD8-A1CD-99F47D6B8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