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05096"/>
        <c:axId val="725084"/>
      </c:barChart>
      <c:catAx>
        <c:axId val="65905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84"/>
        <c:crosses val="autoZero"/>
        <c:auto val="1"/>
        <c:lblAlgn val="ctr"/>
        <c:lblOffset val="100"/>
        <c:noMultiLvlLbl val="0"/>
      </c:catAx>
      <c:valAx>
        <c:axId val="725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05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4A8-167F-4C41-8B7E-AAE321DB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239-5526-4800-908D-E3796DF8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22B-4CA3-4F70-AB30-638BFF76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6B6-795F-480C-9001-C122C9AA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00B-C61F-4B8C-96BE-351AAAA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EE8-13AF-416A-BB00-75CB93F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995-7ABB-4D03-B211-8B46E327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B8B-CC56-4088-848D-02BA0FD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0EA-EB31-4A6A-A9A5-BFA6609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AF0-7EFE-444C-8605-CAC9AF7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5F9-D11C-4FB9-8AB3-D844262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599-7AED-4115-92C5-92541FA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DB024-0758-470B-A765-102A6454A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