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23537"/>
        <c:axId val="92849569"/>
      </c:barChart>
      <c:catAx>
        <c:axId val="61423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49569"/>
        <c:crosses val="autoZero"/>
        <c:auto val="1"/>
        <c:lblAlgn val="ctr"/>
        <c:lblOffset val="100"/>
        <c:noMultiLvlLbl val="0"/>
      </c:catAx>
      <c:valAx>
        <c:axId val="92849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23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478-16C8-4E10-ACBA-687A6A70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CB6-0357-4352-98EC-AB59617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8CD-CCB9-4694-998F-CA51B38E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C20-0C41-44EF-ACC3-132FFAFE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B34-9E5E-4D87-918F-2B592238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9EA-E644-4C5B-9528-E9123C0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41C-23D8-481B-B342-57A3633C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4AB-E1F7-471E-B9BE-6F003A2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A5C-9C39-436E-AD69-68E185D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C36-9118-4FD3-A0E0-B06D1AC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9A8-A29C-4D51-BC43-9E2A54B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20C-F23E-4081-8529-669CACC8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A3C36-063B-4AD4-ADD0-FA7B40120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