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33738"/>
        <c:axId val="62426437"/>
      </c:barChart>
      <c:catAx>
        <c:axId val="26633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6437"/>
        <c:crosses val="autoZero"/>
        <c:auto val="1"/>
        <c:lblAlgn val="ctr"/>
        <c:lblOffset val="100"/>
        <c:noMultiLvlLbl val="0"/>
      </c:catAx>
      <c:valAx>
        <c:axId val="62426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33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E4D-8B20-42FC-9623-E22D5EA7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1B6-9C5B-4FF6-BB6E-E2CA622D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85C-9D12-41C0-8852-39FCCE91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6CD-E291-41D0-957C-4010A4F4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A25-76D0-426F-81BC-45496FA4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994-226A-4548-8AF9-8F5DFD0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298-15D1-43F0-BF41-B76A92E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1B2-FB54-471F-AB1E-A6030BEF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7CB-4ECA-4CD3-B1A0-BE87B255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EAF-16B2-4B1F-960A-459E26B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E20-BC5A-48D9-9C9D-0CBAA3B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C3B-0A5F-4A91-A051-09F31F9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7B43-7515-49F9-B090-8CC9BFA58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