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7545"/>
        <c:axId val="61815661"/>
      </c:barChart>
      <c:catAx>
        <c:axId val="4577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15661"/>
        <c:crosses val="autoZero"/>
        <c:auto val="1"/>
        <c:lblAlgn val="ctr"/>
        <c:lblOffset val="100"/>
        <c:noMultiLvlLbl val="0"/>
      </c:catAx>
      <c:valAx>
        <c:axId val="61815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7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E8A-5F24-4A58-A5E0-A5CA121D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9B2-26A7-4944-BBCF-A5301FA8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3FF-C171-4040-9661-A0802705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9D9-7D4B-405D-8BBD-9B21F3CF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D67-A55C-40C3-9980-164A3BA7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785-BF74-46D1-9B21-856C672E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C39-A49D-49CF-B74B-9D378AD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3C6-8823-4914-A845-786B7B39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EBD-1A15-4ADD-B027-6056D426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CB7-C3FF-40F0-A9D2-E06F64F5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B7F-5F75-473E-8EBF-E7E8C280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B98-1319-4021-A6FB-BADEA167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C8A76-0D13-4EA8-A039-9D45184544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