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81813"/>
        <c:axId val="89685990"/>
      </c:barChart>
      <c:catAx>
        <c:axId val="65681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85990"/>
        <c:crosses val="autoZero"/>
        <c:auto val="1"/>
        <c:lblAlgn val="ctr"/>
        <c:lblOffset val="100"/>
        <c:noMultiLvlLbl val="0"/>
      </c:catAx>
      <c:valAx>
        <c:axId val="89685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81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8CF-B328-4B54-AC44-9789C442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C34-45E1-4854-B5F4-4E17B501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302-7956-494A-91DD-05A7A771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26A-E95B-4C37-A0D0-469844F0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3A2-61E5-4475-8472-B9C86EBC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6BB-5CEC-40CC-B685-2A174E5C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B65-4FED-4D19-856F-4DD88DD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EF9-7303-498F-B62F-506A0A94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EA2-3856-4C0C-ABCA-A3A2148E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508-F5FB-47F3-892B-8083AC2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AF1-2D28-470D-B75C-BB960A5E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C24-16CF-4D4D-BCE9-AC70FC17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6EC9A-30EC-496A-BC84-A1530AD210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