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47853"/>
        <c:axId val="17117297"/>
      </c:barChart>
      <c:catAx>
        <c:axId val="82147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17297"/>
        <c:crosses val="autoZero"/>
        <c:auto val="1"/>
        <c:lblAlgn val="ctr"/>
        <c:lblOffset val="100"/>
        <c:noMultiLvlLbl val="0"/>
      </c:catAx>
      <c:valAx>
        <c:axId val="17117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47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444-AF39-4C23-BCCA-7EA49086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BF9-78FE-4E62-860E-E6605DDF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D4C-5B6C-4FD6-9C74-A48F3A37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97B-26A4-4273-AC8A-2368D9B3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6FD-FEF3-49A1-B88A-A9341E07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CC3-D5FD-459D-A82F-493A1DF1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3A6-2464-4B7E-BCAC-74F0A1D3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3C2-5A71-4C00-918C-F31B55D6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AB0-0AAC-4100-B9AE-EABF195E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616-6CC1-4286-B3DA-3E93B546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7B3-8DF3-4058-A5D8-BAF2E819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870-A7A2-4E82-B48D-CB799E18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10876-AFD3-48AC-8241-6F4A6E144A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