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64824"/>
        <c:axId val="5429990"/>
      </c:barChart>
      <c:catAx>
        <c:axId val="26764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9990"/>
        <c:crosses val="autoZero"/>
        <c:auto val="1"/>
        <c:lblAlgn val="ctr"/>
        <c:lblOffset val="100"/>
        <c:noMultiLvlLbl val="0"/>
      </c:catAx>
      <c:valAx>
        <c:axId val="5429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64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7CC3-FBD9-4745-9A88-69631346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36A-32C6-4538-9553-7429211F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D21-0738-481E-8308-0E19B92C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F0E-FA23-40D9-BE64-2068A40B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2E5-79CA-4D92-AC52-62F9FF42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051-BC1F-4916-8167-7220B112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C2B-0C51-474C-A278-4F31FFBE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EC4-E6D4-44FE-97B4-B19D0EA2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C2A-4A7A-472E-B0E3-DA1EACC3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CAD-0DCF-4805-97F8-3DFBDB2E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EDC-4861-4BF9-8CCB-5D0E7F3A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307-5F8B-4CC6-B462-244D662A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0C243-6B2C-490F-96B1-27102C5CEF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