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55210"/>
        <c:axId val="57196424"/>
      </c:barChart>
      <c:catAx>
        <c:axId val="81755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96424"/>
        <c:crosses val="autoZero"/>
        <c:auto val="1"/>
        <c:lblAlgn val="ctr"/>
        <c:lblOffset val="100"/>
        <c:noMultiLvlLbl val="0"/>
      </c:catAx>
      <c:valAx>
        <c:axId val="57196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55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8DD-E8B9-43A1-B6AA-FF409B13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FC8-5007-4FD8-A537-BB83174F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4B93-1532-46E1-B9E6-96D6368B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8F6-7BD6-4F57-AEDA-D311240F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96B-5F74-4AFA-B290-747C3205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1E3-0364-4AE5-BC9C-12B35597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83B-3776-46FB-9153-0520C0D5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073-49AC-412A-94A1-62804259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368-DE24-47F4-BD0D-CCCC2FF8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9F62-BCFD-4CD0-8CCB-E2B162FD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886-64C8-41AD-A0FB-B805D09E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A04-6C29-43B6-9971-C60ECB9A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774A1-D341-4AE3-A037-0689B43F3D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