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53056"/>
        <c:axId val="84889968"/>
      </c:barChart>
      <c:catAx>
        <c:axId val="96553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89968"/>
        <c:crosses val="autoZero"/>
        <c:auto val="1"/>
        <c:lblAlgn val="ctr"/>
        <c:lblOffset val="100"/>
        <c:noMultiLvlLbl val="0"/>
      </c:catAx>
      <c:valAx>
        <c:axId val="84889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53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530-A454-4A74-9CA4-0312EB37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FB5-4867-4228-9B3A-616B4B5B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200-E71D-4F99-8A8D-6B61FB1B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A9F-00D8-4F45-97A3-DD6AC5CD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45E-4CC2-4623-8BDF-B3DAE813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080-7CF3-4C65-93CF-F2267544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E39-BDF8-498D-8C0A-B8F74154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90B-55F2-42A7-855B-EFC55ADC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2C8-1EA4-46BE-9668-86684A7B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7BF-E208-49E1-8649-74B3F3F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227-18C5-4A12-A1A2-A03537BA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E89-64BB-4CF8-A8CA-D08E508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57A49-58FE-48EB-A14E-281DBE2C0C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