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980358"/>
        <c:axId val="49633669"/>
      </c:barChart>
      <c:catAx>
        <c:axId val="519803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633669"/>
        <c:crosses val="autoZero"/>
        <c:auto val="1"/>
        <c:lblAlgn val="ctr"/>
        <c:lblOffset val="100"/>
        <c:noMultiLvlLbl val="0"/>
      </c:catAx>
      <c:valAx>
        <c:axId val="496336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9803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4D64-A7EE-465B-B1A5-B8820370F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4FA2-921A-4264-8805-E3987DA2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D41A-FF06-49D3-B6D5-ED1F2E203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E23D-709E-404F-A888-1858791D1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6149-5212-4090-8568-2EE49C80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835C-4B1E-491D-B25D-FD958305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AF2A-08F3-4A38-A96D-A2094E18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7AF4-CC83-472C-B0F5-65D12638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DE2C-3BFB-4F33-991B-265610DB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0121-230D-4884-9528-45BB90B6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E45D-F3F1-4454-AFC9-0BE0E7FC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1891-45BE-4CCE-90BD-61B3E83D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034A9D-FF6E-4E50-806C-5F7566ACFE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