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68092"/>
        <c:axId val="48191522"/>
      </c:barChart>
      <c:catAx>
        <c:axId val="35680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91522"/>
        <c:crosses val="autoZero"/>
        <c:auto val="1"/>
        <c:lblAlgn val="ctr"/>
        <c:lblOffset val="100"/>
        <c:noMultiLvlLbl val="0"/>
      </c:catAx>
      <c:valAx>
        <c:axId val="481915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80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053C-5119-4EC4-8EB6-E32F36F5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7993-51F8-474B-B0A0-D3D4370F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5382-9FB6-4355-ADFD-99CE6697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BCF7-AB23-4D39-9D9E-7D805C35A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69DF-51AB-4371-88BF-06EA050A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1C95-E5C7-4210-A3E1-B5AD3882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E294-92C1-4742-8B17-FA186BA8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3103-45A8-4E35-972C-066B6CB1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F84C-56E9-4D2A-9461-B252FAA5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E02A-FC05-4D0E-8E0F-FA000527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A174-F629-4A92-BED1-E30B0A0E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DBE5-ACFC-4E0D-B12C-21B9417D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01AE4-1CF1-43C3-B78F-9A41DD75F3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