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22972"/>
        <c:axId val="33088893"/>
      </c:barChart>
      <c:catAx>
        <c:axId val="20922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88893"/>
        <c:crosses val="autoZero"/>
        <c:auto val="1"/>
        <c:lblAlgn val="ctr"/>
        <c:lblOffset val="100"/>
        <c:noMultiLvlLbl val="0"/>
      </c:catAx>
      <c:valAx>
        <c:axId val="33088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22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887-E832-48E6-A200-EB60BF5E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DCA-CE94-43BC-AF51-E86E7A7A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59B-2719-4F11-9528-B278DBAD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63E-A12A-4AF8-83ED-621A3F73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2A0-4EA3-44F3-96B0-31615D09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9FB-E8CB-4B52-BF8D-FD53FF2F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8C8-3851-493B-A1D5-C0671D1E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70D-20E1-4C05-8E0A-8A21DB4C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D90-1912-4652-A6CE-CD8C8FC9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13A-7AA5-4979-B3C7-889CA323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2F4-5C4A-490C-8459-076C8A3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F79-AABA-441F-97F2-00755325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26C0A-1BC0-491D-9B7A-BFD4F0D2B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