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87676"/>
        <c:axId val="88986175"/>
      </c:barChart>
      <c:catAx>
        <c:axId val="50987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6175"/>
        <c:crosses val="autoZero"/>
        <c:auto val="1"/>
        <c:lblAlgn val="ctr"/>
        <c:lblOffset val="100"/>
        <c:noMultiLvlLbl val="0"/>
      </c:catAx>
      <c:valAx>
        <c:axId val="88986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87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C11-2715-47F1-8CAB-69089F12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A8F-298F-427A-BFF7-421E38F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B2B-2CDB-4194-B106-BB5D6B2D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4DC-3B10-46A5-953E-B6AD29C3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C9A-18B2-498E-AFB7-B935800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73F-5E5C-40E6-A93E-8A029409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145-4C5E-4D2A-8DDE-3A60EE6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F48-6A32-471C-B3B3-1F21D03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C46-C296-4FF9-931E-7BD5EA2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DE8-FD58-4413-9E63-470467D8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EE0-B5FF-4F22-8E27-6659C30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A2B-5C1A-4CB9-A7BD-E6CCEE72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464BF-E9E5-49C8-B3AF-1DA2D1221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