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08436"/>
        <c:axId val="21065135"/>
      </c:barChart>
      <c:catAx>
        <c:axId val="81708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65135"/>
        <c:crosses val="autoZero"/>
        <c:auto val="1"/>
        <c:lblAlgn val="ctr"/>
        <c:lblOffset val="100"/>
        <c:noMultiLvlLbl val="0"/>
      </c:catAx>
      <c:valAx>
        <c:axId val="21065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08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BEC-8EDC-416F-B61D-4C460DBA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502-43F4-4905-82DC-C78FE082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7B5-A7D1-4848-8BA8-614719E1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AAA-A4E9-4AB3-A6CE-BAB93F88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DC5-2838-4D10-A148-D42DE306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135-3867-480C-962E-953C9337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7A7-EAC9-4EFF-9517-02BCA34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336-1E95-41A4-A37E-193A8452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0FE-53E7-4F73-B232-F6064F50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389-C0B9-47B9-806B-98F5D0C8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03D-1488-4674-BADB-194732B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529-29A6-4778-A4C2-0066F4BE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0B30C-9EBA-4F70-9A99-41F563F679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