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62731"/>
        <c:axId val="87834802"/>
      </c:barChart>
      <c:catAx>
        <c:axId val="30562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34802"/>
        <c:crosses val="autoZero"/>
        <c:auto val="1"/>
        <c:lblAlgn val="ctr"/>
        <c:lblOffset val="100"/>
        <c:noMultiLvlLbl val="0"/>
      </c:catAx>
      <c:valAx>
        <c:axId val="87834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62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392-C17E-44B1-B474-1F8FE91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ECE-74BD-405A-8DC7-24072AEA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52F-8C5E-439D-A749-6B2316F6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160-BBF2-4D97-A9F0-D4F24D29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D85-FA0C-49BE-8C15-75F2D457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EFA-F333-420F-B99D-D63AD19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FBC-B3F1-4B63-A7A9-9A8952D8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A39-AEA7-4782-838B-8161BA1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777-0F52-4B58-9593-63F22C7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8F9-8CAA-4B31-9E71-50A030D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A32-E0A4-42D9-BC41-54241C59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09D-5D87-4C73-98B7-33E0466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F28D2-8F0B-4BA2-BFC5-EDA757E67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