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35669"/>
        <c:axId val="30120998"/>
      </c:barChart>
      <c:catAx>
        <c:axId val="34135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20998"/>
        <c:crosses val="autoZero"/>
        <c:auto val="1"/>
        <c:lblAlgn val="ctr"/>
        <c:lblOffset val="100"/>
        <c:noMultiLvlLbl val="0"/>
      </c:catAx>
      <c:valAx>
        <c:axId val="30120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35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837-8D0B-44A6-A4D7-EE3C04D3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086-A5FF-405C-8FA5-942EFEEA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A4D-8CAD-4F7E-B5ED-DC0995C9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908-A22E-44D9-B6BD-8720CEFE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FBB-1973-4185-82D6-9DE84343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B8A-9F64-4ACE-8658-F8D9904F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FBB-9F14-4F13-BD69-280E5559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AC1-AE45-4F2B-8632-30F6E4C6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622-F97E-4B4B-90F0-C1F16126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5FF-AF74-4D59-8176-B1B6203D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8C2-EE2E-4B32-806A-13C751AB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9D4-008F-4369-9F88-84AFB25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1AEFC-C5BD-4452-97C7-5254DC9D90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