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38346"/>
        <c:axId val="37922443"/>
      </c:barChart>
      <c:catAx>
        <c:axId val="77383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22443"/>
        <c:crosses val="autoZero"/>
        <c:auto val="1"/>
        <c:lblAlgn val="ctr"/>
        <c:lblOffset val="100"/>
        <c:noMultiLvlLbl val="0"/>
      </c:catAx>
      <c:valAx>
        <c:axId val="379224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83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0EA5-4B59-4712-BA8B-AC858FCD2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BF9D-A514-4DEE-9654-372B08AA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D554-64BB-4C4A-8FB6-55CCF5B1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53AE-409A-4564-9DFC-A29FCA47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243A-8B9A-4D03-8898-5953B5B1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EF03-92A7-42E6-A721-90A343FB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4096-F7AB-4638-9FBC-BB18F01E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A5C1-A8E7-48E1-81D8-43BAB49B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B340-9D8A-4408-A39D-8841AB8E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950B-497F-4C89-9E6B-BE06096E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CE00-5DB6-4713-B3F7-9EC068A5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BE67-E67C-455F-B61A-A8233F38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8DDEA-004A-46AC-B3D2-C2C7D08C01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