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16407"/>
        <c:axId val="47862920"/>
      </c:barChart>
      <c:catAx>
        <c:axId val="11716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62920"/>
        <c:crosses val="autoZero"/>
        <c:auto val="1"/>
        <c:lblAlgn val="ctr"/>
        <c:lblOffset val="100"/>
        <c:noMultiLvlLbl val="0"/>
      </c:catAx>
      <c:valAx>
        <c:axId val="478629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16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F30-943B-4572-BB50-8092B9F4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21A-BB46-430A-93AC-BF6D8773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20C-D105-46A2-9A2A-7F9D86EA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D597-AD6D-4A59-AEDE-4B69F3B0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99F-966F-4F1B-8BDD-459C8FD6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92D-1C38-4321-93B4-57D79614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7D8-1E20-486E-B11C-63E0B136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058-A151-4EC7-B730-5E7AD9E1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53B-4BD8-4B21-AE64-55F6B4A9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AB8-3267-4687-BFDA-4867731F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1B80-B279-43E8-8845-1CDBCD7F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F106-F2E8-4CC2-8EFF-AD3CA4DA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73430-BC6D-4261-AF03-861819308A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