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28664"/>
        <c:axId val="6315693"/>
      </c:barChart>
      <c:catAx>
        <c:axId val="11928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5693"/>
        <c:crosses val="autoZero"/>
        <c:auto val="1"/>
        <c:lblAlgn val="ctr"/>
        <c:lblOffset val="100"/>
        <c:noMultiLvlLbl val="0"/>
      </c:catAx>
      <c:valAx>
        <c:axId val="6315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28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9D9-1D1B-4F59-AB18-5DC215AC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068-96C9-4AF2-AD1F-517581FD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FD2-B3C1-4F22-BBC4-48B52DB7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AED-7A85-4258-8C4E-C4DC110D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F71-A18C-4DA6-9A3D-B5E27BB6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69C-313F-47A5-9B34-3681D233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7E2-EF65-4758-8D69-95A74530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EC0-2426-4771-970A-262E3E6F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8D9-53EF-4CBB-977C-31C198E3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A82-9B32-4543-A18F-8B17E34F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92A-5060-4F53-BDEA-178ECFE2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679-F526-4754-890F-2526A77B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5159B-3A97-4359-9C51-37CCD04474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