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259500"/>
        <c:axId val="16945542"/>
      </c:barChart>
      <c:catAx>
        <c:axId val="542595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45542"/>
        <c:crosses val="autoZero"/>
        <c:auto val="1"/>
        <c:lblAlgn val="ctr"/>
        <c:lblOffset val="100"/>
        <c:noMultiLvlLbl val="0"/>
      </c:catAx>
      <c:valAx>
        <c:axId val="169455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2595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F195-1F19-4D49-B52D-E6CA58B4E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630E-C6CE-4BA3-B859-6AAAA074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01D0-B809-4ADE-8A2B-7254167A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6D44-526A-4AAB-A59E-05248E58F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B087-C21A-462C-86FF-EF28771B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AE51-491F-4FA7-BF9C-DBA8F9FA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AEE0-1616-4521-A569-71E529C3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34EC-E1A3-4F4D-B144-5C7BF6EF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22C7-99BD-4FDB-8EBA-7F003D3F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374D-636F-4335-B854-15215B5A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6374-C917-4941-A599-4EE7A773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4FD2-57EF-458C-B687-BCEB42CB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C91DC-F7F5-4B26-B4D1-4EC9C7BD55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